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948-2998-4BFF-96B8-BA1F13F4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751-8326-4CFF-B6A9-B3632DB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F7A-4661-4321-82C4-0338928C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CF7-1B49-4E0F-A3B3-703124C3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F2-8423-496E-8029-809CC01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9DC-6C72-46FD-943B-53B1981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A94-F64D-43A3-B85B-2D85227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0DA-7180-4714-BC90-54C2355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610-A6D2-466F-A723-9245A11B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FFD-2499-4BE5-81A2-735AB75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E7E-435D-45F4-A05B-B93C888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6F6-7DF1-4CC0-8469-0E5DC40B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4B69-F844-4C89-8DB9-A36C1489D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71640" y="836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- исследования литературного произведения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Picture 2" descr="C:\Users\Никита\Desktop\fonstola.ru-55491.jpg"/>
          <p:cNvPicPr/>
          <p:nvPr/>
        </p:nvPicPr>
        <p:blipFill>
          <a:blip r:embed="rId1"/>
          <a:stretch/>
        </p:blipFill>
        <p:spPr>
          <a:xfrm>
            <a:off x="539640" y="476280"/>
            <a:ext cx="812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2" name="Picture 2" descr="C:\Users\Никита\Desktop\2974724.jpg"/>
          <p:cNvPicPr/>
          <p:nvPr/>
        </p:nvPicPr>
        <p:blipFill>
          <a:blip r:embed="rId1"/>
          <a:stretch/>
        </p:blipFill>
        <p:spPr>
          <a:xfrm>
            <a:off x="684360" y="476280"/>
            <a:ext cx="792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Picture 2" descr="C:\Users\Никита\Desktop\tn_200667_125160b62da6.jpg"/>
          <p:cNvPicPr/>
          <p:nvPr/>
        </p:nvPicPr>
        <p:blipFill>
          <a:blip r:embed="rId1"/>
          <a:stretch/>
        </p:blipFill>
        <p:spPr>
          <a:xfrm>
            <a:off x="755640" y="54936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1979640" y="1628640"/>
            <a:ext cx="4537080" cy="9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7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250920" y="1143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а - атмосферная влага, осаждающаяся при охлаждении мельчайшими водяными каплями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а - маленькие капли влаги, оседающие на растениях, почве при наступлении утренней, или вечерней прохлады. (Словарь С. И. Ожегова)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684360" y="313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ий лис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Название произведения. Его тема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Словарь ( трудные слова и их значение)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Выразительные средства(написать и привести примеры)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ставить план из трёх пунктов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Какие чувства выразил автор, какие чувства возникли у вас?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 Определить тип текста .(доказать ответ его отличительными признаками)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976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Описание и его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1052640"/>
            <a:ext cx="89420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писани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– словесное изображение какого - либо явления действитель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ости  путём  перечисления  и  раскрытия   его  основных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знаков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840" y="1916280"/>
            <a:ext cx="768492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Цель описания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– сделать так , чтобы читатель (слушатель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видел предмет описания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ставил его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 своём сознани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0920" y="3716280"/>
            <a:ext cx="5022360" cy="234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 описания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1.Общее представление о предмет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Отдельные признаки предмет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описание деталей, частей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Авторская оценка, вывод ,заключение 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0800" y="2890800"/>
            <a:ext cx="3643200" cy="3965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вые особенности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Широкое   использова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лов, обозначающих качест-ва , свойства  предметов 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Употребление   глаголов несовершенного  вида  в форме прошедшего времен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  для  особой  наглядности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зобразительности – в фор-ме настоящего времен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ажную   роль  играют определения , назывные  и  неполные  предложения 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619280" cy="1060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46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9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8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8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7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2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6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8" name="Picture 2" descr="C:\Users\Никита\Desktop\fonstola.ru-55491.jpg"/>
          <p:cNvPicPr/>
          <p:nvPr/>
        </p:nvPicPr>
        <p:blipFill>
          <a:blip r:embed="rId1"/>
          <a:stretch/>
        </p:blipFill>
        <p:spPr>
          <a:xfrm>
            <a:off x="539640" y="476280"/>
            <a:ext cx="812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0" name="Picture 2" descr="C:\Users\Никита\Desktop\img4 (2).jpg"/>
          <p:cNvPicPr/>
          <p:nvPr/>
        </p:nvPicPr>
        <p:blipFill>
          <a:blip r:embed="rId1"/>
          <a:stretch/>
        </p:blipFill>
        <p:spPr>
          <a:xfrm>
            <a:off x="426960" y="378000"/>
            <a:ext cx="84358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1"/>
          <p:cNvSpPr/>
          <p:nvPr/>
        </p:nvSpPr>
        <p:spPr>
          <a:xfrm>
            <a:off x="971640" y="765000"/>
            <a:ext cx="748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или речи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ый.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но –познавательный.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17" descr="1024-12116"/>
          <p:cNvPicPr/>
          <p:nvPr/>
        </p:nvPicPr>
        <p:blipFill>
          <a:blip r:embed="rId1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j0293828"/>
          <p:cNvPicPr/>
          <p:nvPr/>
        </p:nvPicPr>
        <p:blipFill>
          <a:blip r:embed="rId2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61" name="Tree"/>
          <p:cNvSpPr/>
          <p:nvPr/>
        </p:nvSpPr>
        <p:spPr>
          <a:xfrm>
            <a:off x="539640" y="3284640"/>
            <a:ext cx="1871640" cy="1368360"/>
          </a:xfrm>
          <a:custGeom>
            <a:avLst/>
            <a:gdLst>
              <a:gd name="textAreaLeft" fmla="*/ 65880 w 1871640"/>
              <a:gd name="textAreaRight" fmla="*/ 1825920 w 1871640"/>
              <a:gd name="textAreaTop" fmla="*/ 1422720 h 1368360"/>
              <a:gd name="textAreaBottom" fmla="*/ 1792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0" descr="j0304933"/>
          <p:cNvPicPr/>
          <p:nvPr/>
        </p:nvPicPr>
        <p:blipFill>
          <a:blip r:embed="rId3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26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6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38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88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38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88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3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7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Picture 2" descr="C:\Users\Никита\Downloads\img2 (2).jpg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1258920" y="549360"/>
            <a:ext cx="67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асибо за урок !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619280" y="3157560"/>
            <a:ext cx="60307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611280" y="404640"/>
          <a:ext cx="1368252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4640"/>
                    <a:ext cx="1368252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7"/>
          <p:cNvSpPr/>
          <p:nvPr/>
        </p:nvSpPr>
        <p:spPr>
          <a:xfrm>
            <a:off x="2920680" y="1413000"/>
            <a:ext cx="87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дно фото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4937760" y="17733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происходит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4938840" y="1341360"/>
            <a:ext cx="132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колько фото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952680" y="1341360"/>
            <a:ext cx="82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т фото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2849040" y="1773360"/>
            <a:ext cx="133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ой предмет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6948360" y="1773360"/>
            <a:ext cx="13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чему это так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920680" y="2421000"/>
            <a:ext cx="1672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еловек , природа , 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кружающая среда и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. д.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4935240" y="2421000"/>
            <a:ext cx="81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878520" y="2421000"/>
            <a:ext cx="67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ысли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2776680" y="3429000"/>
            <a:ext cx="111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асти целого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4859280" y="3500280"/>
            <a:ext cx="85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6880680" y="3357720"/>
            <a:ext cx="14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оказательства и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2778120" y="4005360"/>
            <a:ext cx="181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ого прилагательных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4795200" y="400536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ого глаголов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6880320" y="4005360"/>
            <a:ext cx="1809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первых ,во- вторых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другие слова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28"/>
          <p:cNvSpPr/>
          <p:nvPr/>
        </p:nvSpPr>
        <p:spPr>
          <a:xfrm>
            <a:off x="2775240" y="4724280"/>
            <a:ext cx="202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асти и описание свойств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астей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Box 29"/>
          <p:cNvSpPr/>
          <p:nvPr/>
        </p:nvSpPr>
        <p:spPr>
          <a:xfrm>
            <a:off x="4863960" y="4724280"/>
            <a:ext cx="207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ступление ,завязка ,куль-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нация , развязка ,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Box 30"/>
          <p:cNvSpPr/>
          <p:nvPr/>
        </p:nvSpPr>
        <p:spPr>
          <a:xfrm>
            <a:off x="6880680" y="4724280"/>
            <a:ext cx="1907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езис ,аргументы ( дока-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тельства) , примеры ,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вод  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Box 31"/>
          <p:cNvSpPr/>
          <p:nvPr/>
        </p:nvSpPr>
        <p:spPr>
          <a:xfrm>
            <a:off x="2707560" y="5877000"/>
            <a:ext cx="212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образительные средства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Box 32"/>
          <p:cNvSpPr/>
          <p:nvPr/>
        </p:nvSpPr>
        <p:spPr>
          <a:xfrm>
            <a:off x="4792320" y="5877000"/>
            <a:ext cx="76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иалоги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Box 33"/>
          <p:cNvSpPr/>
          <p:nvPr/>
        </p:nvSpPr>
        <p:spPr>
          <a:xfrm>
            <a:off x="6808680" y="5877000"/>
            <a:ext cx="82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3085560" y="98100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образить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Box 35"/>
          <p:cNvSpPr/>
          <p:nvPr/>
        </p:nvSpPr>
        <p:spPr>
          <a:xfrm>
            <a:off x="5029560" y="98100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ссказать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7039800" y="98100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казать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84360" y="765000"/>
            <a:ext cx="69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ЛЮЧЕВЫЕ  СЛОВА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900000" y="2133720"/>
            <a:ext cx="58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ипы текстов и  их признаки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разительные  средства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ли  речи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826920" y="981000"/>
            <a:ext cx="763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 Толстой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акая бывает роса на траве.»(описание)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да девается вода из моря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(рассуждение)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2" name="Picture 2" descr="C:\Users\Никита\Desktop\s1200 (2).jpg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4" name="Picture 2" descr="C:\Users\Никита\Desktop\img4 (2).jpg"/>
          <p:cNvPicPr/>
          <p:nvPr/>
        </p:nvPicPr>
        <p:blipFill>
          <a:blip r:embed="rId1"/>
          <a:stretch/>
        </p:blipFill>
        <p:spPr>
          <a:xfrm>
            <a:off x="426960" y="378000"/>
            <a:ext cx="84358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6" name="Picture 2" descr="C:\Users\Никита\Desktop\hello_html_m279a21c0.jpg"/>
          <p:cNvPicPr/>
          <p:nvPr/>
        </p:nvPicPr>
        <p:blipFill>
          <a:blip r:embed="rId1"/>
          <a:stretch/>
        </p:blipFill>
        <p:spPr>
          <a:xfrm>
            <a:off x="1763640" y="189000"/>
            <a:ext cx="5472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8" name="Picture 2" descr="C:\Users\Никита\Desktop\img10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Дашкевич М. В.</dc:creator>
  <dc:description/>
  <dc:language>en-US</dc:language>
  <cp:lastModifiedBy>1</cp:lastModifiedBy>
  <dcterms:modified xsi:type="dcterms:W3CDTF">2021-10-19T13:24:35Z</dcterms:modified>
  <cp:revision>174</cp:revision>
  <dc:subject/>
  <dc:title>Слайд 1</dc:title>
</cp:coreProperties>
</file>